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26C4-7A96-4250-AF2E-94F537773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86742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360" y="4185360"/>
            <a:ext cx="86742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5EC6-3578-4E01-924D-EA8134C3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191304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360" y="418536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8536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B103-764B-4044-AA9C-AFC084534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279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3280" y="1913040"/>
            <a:ext cx="279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86200" y="1913040"/>
            <a:ext cx="279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360" y="4185360"/>
            <a:ext cx="279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3280" y="4185360"/>
            <a:ext cx="279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86200" y="4185360"/>
            <a:ext cx="279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430A-B488-422B-A88E-896040D6E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360" y="1913040"/>
            <a:ext cx="86742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3413-4D20-44DA-977E-D742986C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86742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A517-B83D-4E80-9E90-3ED08E53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32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1913040"/>
            <a:ext cx="4232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5573-D68D-4543-AEB0-ED5F981C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F3D8-A886-40AD-9868-42E851C7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360" y="539640"/>
            <a:ext cx="906948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61B7-9C9C-4179-A26C-119B8430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1913040"/>
            <a:ext cx="4232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360" y="418536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98DA-1E64-4844-AD7C-6CB226CF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32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191304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8536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CC9B-52FE-4E74-9A16-8993F1BF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1913040"/>
            <a:ext cx="42328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360" y="4185360"/>
            <a:ext cx="86742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DC22-A419-4EE7-B7C4-70012005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360" y="1913040"/>
            <a:ext cx="86742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6000" y="65278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52788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54640" y="65278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A3E41B-A4CF-41F0-B92B-0103B3A7BF0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n.wikipedia.org/wiki/Mexican_Drug_War" TargetMode="External"/><Relationship Id="rId3" Type="http://schemas.openxmlformats.org/officeDocument/2006/relationships/hyperlink" Target="http://projects.latimes.com/mexico-drug-war/#/its-a-war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xic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20360" y="1912680"/>
            <a:ext cx="8675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Compi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ncer Bickn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58536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ckground Overvie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8675640" cy="426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863640" indent="-646200">
              <a:lnSpc>
                <a:spcPct val="93000"/>
              </a:lnSpc>
              <a:spcAft>
                <a:spcPts val="1426"/>
              </a:spcAft>
              <a:buClr>
                <a:srgbClr val="47b8b8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year more and more people are killed by wars between the Drug Cartels in Mexico, 2010 totaling over 11,000 peo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63640" indent="-646200">
              <a:lnSpc>
                <a:spcPct val="93000"/>
              </a:lnSpc>
              <a:spcAft>
                <a:spcPts val="1426"/>
              </a:spcAft>
              <a:buClr>
                <a:srgbClr val="47b8b8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estimated that 90% of the cocaine in the United States comes through Mex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63640" indent="-646200">
              <a:lnSpc>
                <a:spcPct val="93000"/>
              </a:lnSpc>
              <a:spcAft>
                <a:spcPts val="1426"/>
              </a:spcAft>
              <a:buClr>
                <a:srgbClr val="47b8b8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of the cocaine routed through Mexico is produced in the South American country of Colomb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4360" y="58536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rear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867564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855000" indent="-639720">
              <a:lnSpc>
                <a:spcPct val="93000"/>
              </a:lnSpc>
              <a:spcAft>
                <a:spcPts val="1426"/>
              </a:spcAft>
              <a:buClr>
                <a:srgbClr val="47b8b8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xicans have firearms available to them legally but due to the process being difficult most are smuggled from the United St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55000" indent="-639720">
              <a:lnSpc>
                <a:spcPct val="93000"/>
              </a:lnSpc>
              <a:spcAft>
                <a:spcPts val="1426"/>
              </a:spcAft>
              <a:buClr>
                <a:srgbClr val="47b8b8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AK-47 and AR-15 semi automatic rifles come from the United States while full automatic weapons are less common and smuggled from elsewhe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55000" indent="-639720">
              <a:lnSpc>
                <a:spcPct val="93000"/>
              </a:lnSpc>
              <a:spcAft>
                <a:spcPts val="1426"/>
              </a:spcAft>
              <a:buClr>
                <a:srgbClr val="47b8b8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only one legal gun shop in all of Mex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re Firear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339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863640" indent="-646200">
              <a:lnSpc>
                <a:spcPct val="93000"/>
              </a:lnSpc>
              <a:spcAft>
                <a:spcPts val="1426"/>
              </a:spcAft>
              <a:buClr>
                <a:srgbClr val="47b8b8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p: Actual M15 seized from Drug Cartel. Notice US Flag on stra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63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63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63640" indent="-646200">
              <a:lnSpc>
                <a:spcPct val="93000"/>
              </a:lnSpc>
              <a:spcAft>
                <a:spcPts val="1426"/>
              </a:spcAft>
              <a:buClr>
                <a:srgbClr val="47b8b8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tom: AK-47 exam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165280" y="1912680"/>
            <a:ext cx="4233960" cy="2074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165280" y="4184640"/>
            <a:ext cx="4233960" cy="2075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257800" y="1828800"/>
            <a:ext cx="388620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5029200" y="4114800"/>
            <a:ext cx="4486320" cy="2286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gh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339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863640" indent="-646200">
              <a:lnSpc>
                <a:spcPct val="93000"/>
              </a:lnSpc>
              <a:spcAft>
                <a:spcPts val="1426"/>
              </a:spcAft>
              <a:buClr>
                <a:srgbClr val="47b8b8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right: darker red areas have more confli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63640" indent="-646200">
              <a:lnSpc>
                <a:spcPct val="93000"/>
              </a:lnSpc>
              <a:spcAft>
                <a:spcPts val="1426"/>
              </a:spcAft>
              <a:buClr>
                <a:srgbClr val="47b8b8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 out of 10 victims in crimes are members of organized crime, such as drug cart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4572000" cy="5029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165640" y="1913040"/>
            <a:ext cx="4233960" cy="42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tical Vs Practic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33960" cy="4917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855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oli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55000" indent="-639720">
              <a:lnSpc>
                <a:spcPct val="93000"/>
              </a:lnSpc>
              <a:spcAft>
                <a:spcPts val="1426"/>
              </a:spcAft>
              <a:buClr>
                <a:srgbClr val="47b8b8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ding 1,800 troops to a border of over 2,000 mi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55000" indent="-639720">
              <a:lnSpc>
                <a:spcPct val="93000"/>
              </a:lnSpc>
              <a:spcAft>
                <a:spcPts val="1426"/>
              </a:spcAft>
              <a:buClr>
                <a:srgbClr val="47b8b8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forcing the war on drugs in Mexico when the US demand is high for dru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1912680"/>
            <a:ext cx="4233960" cy="4917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3000"/>
          </a:bodyPr>
          <a:p>
            <a:pPr marL="8031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ac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3160" indent="-600840">
              <a:lnSpc>
                <a:spcPct val="93000"/>
              </a:lnSpc>
              <a:spcAft>
                <a:spcPts val="1426"/>
              </a:spcAft>
              <a:buClr>
                <a:srgbClr val="47b8b8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ding at least 4,000 troops in order to better maintain the bor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3160" indent="-600840">
              <a:lnSpc>
                <a:spcPct val="93000"/>
              </a:lnSpc>
              <a:spcAft>
                <a:spcPts val="1426"/>
              </a:spcAft>
              <a:buClr>
                <a:srgbClr val="47b8b8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nding money on drug rehabilitation programs to cut US dem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galization of Dru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339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863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osi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63640" indent="-646200">
              <a:lnSpc>
                <a:spcPct val="93000"/>
              </a:lnSpc>
              <a:spcAft>
                <a:spcPts val="1426"/>
              </a:spcAft>
              <a:buClr>
                <a:srgbClr val="47b8b8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 need for smugg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63640" indent="-646200">
              <a:lnSpc>
                <a:spcPct val="93000"/>
              </a:lnSpc>
              <a:spcAft>
                <a:spcPts val="1426"/>
              </a:spcAft>
              <a:buClr>
                <a:srgbClr val="47b8b8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 Cartels have less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63640" indent="-646200">
              <a:lnSpc>
                <a:spcPct val="93000"/>
              </a:lnSpc>
              <a:spcAft>
                <a:spcPts val="1426"/>
              </a:spcAft>
              <a:buClr>
                <a:srgbClr val="47b8b8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ce goes 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63640" indent="-646200">
              <a:lnSpc>
                <a:spcPct val="93000"/>
              </a:lnSpc>
              <a:spcAft>
                <a:spcPts val="1426"/>
              </a:spcAft>
              <a:buClr>
                <a:srgbClr val="47b8b8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 casual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1912680"/>
            <a:ext cx="4233960" cy="426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863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eg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63640" indent="-646200">
              <a:lnSpc>
                <a:spcPct val="93000"/>
              </a:lnSpc>
              <a:spcAft>
                <a:spcPts val="1426"/>
              </a:spcAft>
              <a:buClr>
                <a:srgbClr val="47b8b8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drug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63640" indent="-646200">
              <a:lnSpc>
                <a:spcPct val="93000"/>
              </a:lnSpc>
              <a:spcAft>
                <a:spcPts val="1426"/>
              </a:spcAft>
              <a:buClr>
                <a:srgbClr val="47b8b8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ce goes 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63640" indent="-646200">
              <a:lnSpc>
                <a:spcPct val="93000"/>
              </a:lnSpc>
              <a:spcAft>
                <a:spcPts val="1426"/>
              </a:spcAft>
              <a:buClr>
                <a:srgbClr val="47b8b8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US produced dru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63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360" y="58536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8675640" cy="426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863640" indent="-646200">
              <a:lnSpc>
                <a:spcPct val="93000"/>
              </a:lnSpc>
              <a:spcAft>
                <a:spcPts val="1426"/>
              </a:spcAft>
              <a:buClr>
                <a:srgbClr val="47b8b8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en.wikipedia.org/wiki/Mexican_Drug_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63640" indent="-646200">
              <a:lnSpc>
                <a:spcPct val="93000"/>
              </a:lnSpc>
              <a:spcAft>
                <a:spcPts val="1426"/>
              </a:spcAft>
              <a:buClr>
                <a:srgbClr val="47b8b8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projects.latimes.com/mexico-drug-war/#/its-a-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63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21:24:08Z</dcterms:created>
  <dc:creator/>
  <dc:description>Presentation Layout Template</dc:description>
  <dc:language>en-US</dc:language>
  <cp:lastModifiedBy>Classroom/Lab</cp:lastModifiedBy>
  <dcterms:modified xsi:type="dcterms:W3CDTF">2011-03-31T18:24:07Z</dcterms:modified>
  <cp:revision>3</cp:revision>
  <dc:subject/>
  <dc:title>Numbers on Dark Background</dc:title>
</cp:coreProperties>
</file>